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50A-E2E2-4E5E-AAEB-6B9C1027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F8B-0367-492D-9F38-DA75D98F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19A-73E8-4826-B3E6-C56A31B9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3E9-8517-4FD5-B859-F231D336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AB2-5487-4B07-8F5D-221BEC36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208-2B8E-4F4A-8F08-52498CE2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4A3-DA38-4A47-8AD8-17FBC436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764-E9CE-439A-86BD-AAB76CEA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D3C-EC15-4C1E-87F8-A365096F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105-6057-4D22-AB02-3D88030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FDC-0F8B-4E1A-B7E5-211E812A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25B-8856-4CD8-95F6-2F170CD6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3976-0474-4599-AAC5-718B82470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actice Ontology: Version 0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HCLS C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/08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oti Pathak (Mayo Cli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523880"/>
            <a:ext cx="6781680" cy="266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72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76560" y="0"/>
            <a:ext cx="479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1828800"/>
            <a:ext cx="4800600" cy="2819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86400" y="3519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100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lude “Medic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/verification of the ontology by other members of the COI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mappings to SDTM and HL7 via BRI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Reference Clinical Element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keys seemed more appropriate for building “information mode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hanges to the Referenced Clinical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the “hasKey”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333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1004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648320"/>
            <a:ext cx="464832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5880" y="18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 sub-property hierarchy for “qualifi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hanges to “Vital Signs” and “Lab Observ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50:02Z</dcterms:created>
  <dc:creator>Jyotishman Pathak</dc:creator>
  <dc:description/>
  <dc:language>en-US</dc:language>
  <cp:lastModifiedBy>Jyotishman Pathak</cp:lastModifiedBy>
  <dcterms:modified xsi:type="dcterms:W3CDTF">2008-04-08T03:54:51Z</dcterms:modified>
  <cp:revision>61</cp:revision>
  <dc:subject/>
  <dc:title>Slide 1</dc:title>
</cp:coreProperties>
</file>